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5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CC6F-BED6-48FF-AEA1-1F472C036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1F2D-6ACD-4809-844C-6C1364BEACE7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5EAB-E00F-4428-90B2-A5E2B7241E4F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B89C-5520-420B-B3CC-E8EB09CB40BA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881C-AB1E-4844-B520-8D3C7D218593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C4CF-3B8E-4269-A17E-07D763F7040A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A5C3-B386-455C-8BD9-8F09EAF72E60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A54D-6C9F-4BF6-A32E-754D79A0F410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640B-F5C2-4FCF-8D1A-C5704E5F22E3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2A6F-B2AB-4DB8-A8E5-639CF5C1D90C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C8EF-33CD-4161-9AB8-EE6A2F3C5326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0C69-828F-47B2-BE93-2468D2C817B4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AB23-34E8-4483-BB5C-C222A61DC2AB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FC39-7BD2-475D-9C30-72347A39FD2C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E748-624E-455C-9855-95ADCE037208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440E-3C70-421C-AE6A-C716A906ED4B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8600-C43D-4F67-8051-E82DA7A34348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0E33-6BD8-4255-B2E0-7A36A9628828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61D9-1259-4901-999A-6769CC29493B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1FB7-279B-4440-95D6-39203A750803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7BE1-905A-49DB-848D-B4C88EE75F3A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5A49-968F-4FF7-955F-3CECD8E34901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5C15-18E0-49A4-8529-1EF58496519F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6477-5809-4D84-8B52-8684B8D90CF7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22CF-569C-467A-A807-50E9BAEA8769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C8F-9874-4CD8-9B4C-E1138B36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7A08-B8A3-4939-9D54-9E5F0643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E377-F6FB-4E70-8254-5D50DBEA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6F98-0EC7-41F4-A2DF-FB6CDB77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064E-69B7-4D3F-A70C-A5ECFCA4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4C43-C43A-4941-93A3-338ED463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3564-0557-4382-BE6F-4DCBF224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CAB5-5CA6-4457-8622-8A7CBF15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2E7B-D4D0-405C-8BE5-7E9170CB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BD9A-1F1E-45A1-8F45-03F20218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BBBF-2707-44A1-B3FF-5BEB5E23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CAA-9D20-4FB1-9C9E-ABCC8DC0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8C7B-E224-435D-86D2-191E42087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0/Munchen1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5/IJA_troops_enter_Mukden.jpg" TargetMode="Externa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fornian FB"/>
              </a:rPr>
              <a:t>Ch. 27.1:  The Diplomacy of the New Era</a:t>
            </a:r>
            <a:br>
              <a:rPr sz="3400"/>
            </a:br>
            <a:r>
              <a:rPr b="1" lang="en-US" sz="3400" spc="-1" strike="noStrike" u="sng">
                <a:solidFill>
                  <a:srgbClr val="ffffff"/>
                </a:solidFill>
                <a:uFillTx/>
                <a:latin typeface="Footlight MT Light"/>
              </a:rPr>
              <a:t>Post-WWI Themes/Trends…</a:t>
            </a:r>
            <a:br>
              <a:rPr sz="4000"/>
            </a:br>
            <a:br>
              <a:rPr sz="40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10080" y="2971800"/>
            <a:ext cx="2962440" cy="3733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438280" y="14479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Footlight MT Light"/>
              </a:rPr>
              <a:t>- Pacifism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Footlight MT Light"/>
              </a:rPr>
              <a:t>- Anger/Resentment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Footlight MT Light"/>
              </a:rPr>
              <a:t>- Economic Problems (1919-1920 + Great De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2971800"/>
            <a:ext cx="36957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Footlight MT Light"/>
              </a:rPr>
              <a:t>Ch. 27.2:  Isolationism and Internationalism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Footlight MT Light"/>
              </a:rPr>
              <a:t>Axis Aggres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Aggress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Germany:  Rhineland (1936), Austria (</a:t>
            </a:r>
            <a:r>
              <a:rPr b="0" i="1" lang="en-US" sz="2200" spc="-1" strike="noStrike">
                <a:solidFill>
                  <a:srgbClr val="000000"/>
                </a:solidFill>
                <a:latin typeface="Footlight MT Light"/>
              </a:rPr>
              <a:t>Anschluss</a:t>
            </a: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) (1938), Sudetenland (1938), Czechoslovakia (193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Then Poland on 9/1/39 = WWII Be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Italy:  Ethiopia (1935), Albania (1939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Japan:  Manchuria (1931), China (1937), </a:t>
            </a:r>
            <a:r>
              <a:rPr b="0" i="1" lang="en-US" sz="2200" spc="-1" strike="noStrike">
                <a:solidFill>
                  <a:srgbClr val="000000"/>
                </a:solidFill>
                <a:latin typeface="Footlight MT Light"/>
              </a:rPr>
              <a:t>Panay </a:t>
            </a: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(193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map  Axis Aggression in Europe  World War Two  WW II"/>
          <p:cNvPicPr/>
          <p:nvPr/>
        </p:nvPicPr>
        <p:blipFill>
          <a:blip r:embed="rId1"/>
          <a:stretch/>
        </p:blipFill>
        <p:spPr>
          <a:xfrm>
            <a:off x="6095880" y="3048120"/>
            <a:ext cx="2570400" cy="3600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514600" y="4267080"/>
            <a:ext cx="347184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Footlight MT Light"/>
              </a:rPr>
              <a:t>Ch. 27.2:  Isolationism and Internationalism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Footlight MT Light"/>
              </a:rPr>
              <a:t>Appease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ootlight MT Light"/>
              </a:rPr>
              <a:t>Munich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Meeting between Hitler, Chamberlain, Daladier, Mussolini in 9/1938 in Munich, Germ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Hitler got to keep everything he’s already taken (R.A.S.), but promised not to take anything else (e.g. Czechoslovak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2140200" cy="2643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410080" y="4038480"/>
            <a:ext cx="330048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fornian FB"/>
              </a:rPr>
              <a:t>Ch. 27.3:  From Neutrality to Intervention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Californian FB"/>
              </a:rPr>
              <a:t>Nazi-Soviet Pac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Nazi-Soviet 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Agreement between Hitler Sta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non-aggression” for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Split up Poland/Eastern Europe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480060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fornian FB"/>
              </a:rPr>
              <a:t>Ch. 27.3:  From Neutrality to Intervention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Californian FB"/>
              </a:rPr>
              <a:t>Nazi-Soviet Pac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724640" cy="3432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34120" y="1981080"/>
            <a:ext cx="34956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Anschluss_tears"/>
          <p:cNvPicPr/>
          <p:nvPr/>
        </p:nvPicPr>
        <p:blipFill>
          <a:blip r:embed="rId1"/>
          <a:stretch/>
        </p:blipFill>
        <p:spPr>
          <a:xfrm>
            <a:off x="1447920" y="0"/>
            <a:ext cx="53164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6"/>
          <p:cNvSpPr txBox="1"/>
          <p:nvPr/>
        </p:nvSpPr>
        <p:spPr>
          <a:xfrm>
            <a:off x="1219320" y="3124080"/>
            <a:ext cx="441936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he Anschlu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buildup-to-world-war-2-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kn6j"/>
          <p:cNvPicPr/>
          <p:nvPr/>
        </p:nvPicPr>
        <p:blipFill>
          <a:blip r:embed="rId1"/>
          <a:stretch/>
        </p:blipFill>
        <p:spPr>
          <a:xfrm>
            <a:off x="1981080" y="0"/>
            <a:ext cx="573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he05n10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austr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Partition_of_Czechoslovakia_%281938%29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fornian FB"/>
              </a:rPr>
              <a:t>Ch. 27.1:  The Diplomacy of the New Era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Californian FB"/>
              </a:rPr>
              <a:t>Pacifism/Disarma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91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Footlight MT Light"/>
              </a:rPr>
              <a:t>Washington Naval (</a:t>
            </a:r>
            <a:r>
              <a:rPr b="1" i="1" lang="en-US" sz="2200" spc="-1" strike="noStrike">
                <a:solidFill>
                  <a:srgbClr val="000099"/>
                </a:solidFill>
                <a:latin typeface="Footlight MT Light"/>
              </a:rPr>
              <a:t>Disarmament</a:t>
            </a:r>
            <a:r>
              <a:rPr b="1" lang="en-US" sz="2200" spc="-1" strike="noStrike">
                <a:solidFill>
                  <a:srgbClr val="000099"/>
                </a:solidFill>
                <a:latin typeface="Footlight MT Light"/>
              </a:rPr>
              <a:t>) Conference (192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5-Power Treaty:  U.S. (5), G.B. (5), Japan (3), France (1.67), Italy (1.6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4-Power Treaty:  U.S., France, G.B., Japan agreed to respect each other’s territory in the Paci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Nine-Power Treaty:  All agreed to respect Open Door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43434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highres_30017530%20copy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6"/>
          <p:cNvSpPr txBox="1"/>
          <p:nvPr/>
        </p:nvSpPr>
        <p:spPr>
          <a:xfrm rot="649200">
            <a:off x="561960" y="3522600"/>
            <a:ext cx="8229600" cy="38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unich - Sept. '3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chamberlain-hitler"/>
          <p:cNvPicPr/>
          <p:nvPr/>
        </p:nvPicPr>
        <p:blipFill>
          <a:blip r:embed="rId1"/>
          <a:stretch/>
        </p:blipFill>
        <p:spPr>
          <a:xfrm>
            <a:off x="0" y="0"/>
            <a:ext cx="4386240" cy="5638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0" name="Picture 8" descr="neville_chamberlain_and_adolf_hitler_peace_in_our_time"/>
          <p:cNvPicPr/>
          <p:nvPr/>
        </p:nvPicPr>
        <p:blipFill>
          <a:blip r:embed="rId2"/>
          <a:stretch/>
        </p:blipFill>
        <p:spPr>
          <a:xfrm>
            <a:off x="4640400" y="485640"/>
            <a:ext cx="4503600" cy="637236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9"/>
          <p:cNvSpPr/>
          <p:nvPr/>
        </p:nvSpPr>
        <p:spPr>
          <a:xfrm>
            <a:off x="380880" y="2743200"/>
            <a:ext cx="3200400" cy="1981080"/>
          </a:xfrm>
          <a:prstGeom prst="wedgeEllipseCallout">
            <a:avLst>
              <a:gd name="adj1" fmla="val 24902"/>
              <a:gd name="adj2" fmla="val -1022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his is the last territorial claim I have to make in Europ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5486400" y="0"/>
            <a:ext cx="2819520" cy="1219320"/>
          </a:xfrm>
          <a:prstGeom prst="cloudCallout">
            <a:avLst>
              <a:gd name="adj1" fmla="val 21847"/>
              <a:gd name="adj2" fmla="val 70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He totally bought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p294fig1"/>
          <p:cNvPicPr/>
          <p:nvPr/>
        </p:nvPicPr>
        <p:blipFill>
          <a:blip r:embed="rId1"/>
          <a:stretch/>
        </p:blipFill>
        <p:spPr>
          <a:xfrm>
            <a:off x="533520" y="-60480"/>
            <a:ext cx="8076960" cy="6918480"/>
          </a:xfrm>
          <a:prstGeom prst="rect">
            <a:avLst/>
          </a:prstGeom>
          <a:ln w="0">
            <a:noFill/>
          </a:ln>
        </p:spPr>
      </p:pic>
      <p:sp>
        <p:nvSpPr>
          <p:cNvPr id="116" name="WordArt 5"/>
          <p:cNvSpPr txBox="1"/>
          <p:nvPr/>
        </p:nvSpPr>
        <p:spPr>
          <a:xfrm>
            <a:off x="762120" y="3505320"/>
            <a:ext cx="766764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"Peace in our time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File:Munchen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71356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3200400" y="4693680"/>
            <a:ext cx="59436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Showcard Gothic"/>
              </a:rPr>
              <a:t>The enemy did not expect my great determination….Our enemies are little worms, I saw them at Munich…Now Poland is in the position I want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wcard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wcard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wcard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wcard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wcard Gothic"/>
              </a:rPr>
              <a:t>A. Hit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ERhitlergeorges"/>
          <p:cNvPicPr/>
          <p:nvPr/>
        </p:nvPicPr>
        <p:blipFill>
          <a:blip r:embed="rId1"/>
          <a:stretch/>
        </p:blipFill>
        <p:spPr>
          <a:xfrm>
            <a:off x="198108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WWII%20Appeasement%20Political%20Cartoon%2008"/>
          <p:cNvPicPr/>
          <p:nvPr/>
        </p:nvPicPr>
        <p:blipFill>
          <a:blip r:embed="rId1"/>
          <a:stretch/>
        </p:blipFill>
        <p:spPr>
          <a:xfrm>
            <a:off x="1981080" y="0"/>
            <a:ext cx="533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appeaser"/>
          <p:cNvPicPr/>
          <p:nvPr/>
        </p:nvPicPr>
        <p:blipFill>
          <a:blip r:embed="rId1"/>
          <a:stretch/>
        </p:blipFill>
        <p:spPr>
          <a:xfrm>
            <a:off x="2209680" y="0"/>
            <a:ext cx="48960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Roadt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seuss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suessappease"/>
          <p:cNvPicPr/>
          <p:nvPr/>
        </p:nvPicPr>
        <p:blipFill>
          <a:blip r:embed="rId1"/>
          <a:stretch/>
        </p:blipFill>
        <p:spPr>
          <a:xfrm>
            <a:off x="914400" y="0"/>
            <a:ext cx="716292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fornian FB"/>
              </a:rPr>
              <a:t>Ch. 27.1:  The Diplomacy of the New Era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Californian FB"/>
              </a:rPr>
              <a:t>Pacifism/Disarma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333399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Footlight MT Light"/>
              </a:rPr>
              <a:t>London Conference (19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U.S., Europe, Japan reached further agreement on naval disarmament, but G.B. + France insisted on many loopho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99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Footlight MT Light"/>
              </a:rPr>
              <a:t>World Disarmament Conference (19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Yet another effort at disarmament, although it fail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99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Footlight MT Light"/>
              </a:rPr>
              <a:t>Kellogg-Briand Pact (19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More than 50 nations signed this agreement, which “outlawed” “the aggressive use of force to achieve national ends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Was ineffective, b/c it 1) permitted defensive wars, and 2) had no provision for enforcing against offend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99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Footlight MT Light"/>
              </a:rPr>
              <a:t>Dawes Plan (19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U.S. gave $ to Germany.  Germany gave $ to Britain/France.  B/F paid back $ to U.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smallmaw"/>
          <p:cNvPicPr/>
          <p:nvPr/>
        </p:nvPicPr>
        <p:blipFill>
          <a:blip r:embed="rId1"/>
          <a:stretch/>
        </p:blipFill>
        <p:spPr>
          <a:xfrm>
            <a:off x="685800" y="-36360"/>
            <a:ext cx="792468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treed"/>
          <p:cNvPicPr/>
          <p:nvPr/>
        </p:nvPicPr>
        <p:blipFill>
          <a:blip r:embed="rId1"/>
          <a:stretch/>
        </p:blipFill>
        <p:spPr>
          <a:xfrm>
            <a:off x="1866960" y="0"/>
            <a:ext cx="564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ilw0084"/>
          <p:cNvPicPr/>
          <p:nvPr/>
        </p:nvPicPr>
        <p:blipFill>
          <a:blip r:embed="rId1"/>
          <a:stretch/>
        </p:blipFill>
        <p:spPr>
          <a:xfrm>
            <a:off x="1371600" y="0"/>
            <a:ext cx="67518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flag_sun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2133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85345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mplete isolation before WW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ft out of Versai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mperor – </a:t>
            </a:r>
            <a:r>
              <a:rPr b="0" lang="en-US" sz="2800" spc="-1" strike="noStrike">
                <a:solidFill>
                  <a:srgbClr val="ffff00"/>
                </a:solidFill>
                <a:latin typeface="Showcard Gothic"/>
              </a:rPr>
              <a:t>Hirohito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 Narrow"/>
              </a:rPr>
              <a:t>During G. Depression</a:t>
            </a:r>
            <a:r>
              <a:rPr b="1" i="1" lang="en-US" sz="2800" spc="-1" strike="noStrike">
                <a:solidFill>
                  <a:srgbClr val="ffff00"/>
                </a:solidFill>
                <a:latin typeface="Arial Narro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Ultra -nationalist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forces take control (Toj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ew Japanese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31 – invasion of Manch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2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 Narrow"/>
              </a:rPr>
              <a:t>nd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Sino - Japanese war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– ‘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 Narrow"/>
              </a:rPr>
              <a:t>As empire expands</a:t>
            </a:r>
            <a:r>
              <a:rPr b="1" i="1" lang="en-US" sz="2800" spc="-1" strike="noStrike">
                <a:solidFill>
                  <a:srgbClr val="ffff00"/>
                </a:solidFill>
                <a:latin typeface="Arial Narrow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eeds natural resources to fuel 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ly on U.S.  (steel and oi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July ’41 – U.S. embar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utch East Indies…must neutraliz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acific Fleet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– Pearl Harb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howcard Gothic"/>
              </a:rPr>
              <a:t>The </a:t>
            </a:r>
            <a:r>
              <a:rPr b="1" lang="en-US" sz="4000" spc="-1" strike="noStrike">
                <a:solidFill>
                  <a:srgbClr val="ff0000"/>
                </a:solidFill>
                <a:latin typeface="Showcard Gothic"/>
              </a:rPr>
              <a:t>Empire of Japan</a:t>
            </a:r>
            <a:r>
              <a:rPr b="1" lang="en-US" sz="4000" spc="-1" strike="noStrike">
                <a:solidFill>
                  <a:srgbClr val="000000"/>
                </a:solidFill>
                <a:latin typeface="Showcard Gothic"/>
              </a:rPr>
              <a:t> (in brief)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EmperorHirohitoLarge"/>
          <p:cNvPicPr/>
          <p:nvPr/>
        </p:nvPicPr>
        <p:blipFill>
          <a:blip r:embed="rId2"/>
          <a:stretch/>
        </p:blipFill>
        <p:spPr>
          <a:xfrm>
            <a:off x="6629400" y="2286000"/>
            <a:ext cx="2514600" cy="2158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Reagan-Hirohito%20Tokyo%20Nov%209%201983"/>
          <p:cNvPicPr/>
          <p:nvPr/>
        </p:nvPicPr>
        <p:blipFill>
          <a:blip r:embed="rId3"/>
          <a:stretch/>
        </p:blipFill>
        <p:spPr>
          <a:xfrm>
            <a:off x="7567560" y="4514760"/>
            <a:ext cx="15764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hirohito2"/>
          <p:cNvPicPr/>
          <p:nvPr/>
        </p:nvPicPr>
        <p:blipFill>
          <a:blip r:embed="rId1"/>
          <a:stretch/>
        </p:blipFill>
        <p:spPr>
          <a:xfrm>
            <a:off x="3944880" y="0"/>
            <a:ext cx="51991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6"/>
          <p:cNvSpPr txBox="1"/>
          <p:nvPr/>
        </p:nvSpPr>
        <p:spPr>
          <a:xfrm>
            <a:off x="304920" y="3048120"/>
            <a:ext cx="4733640" cy="32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irohi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pic35"/>
          <p:cNvPicPr/>
          <p:nvPr/>
        </p:nvPicPr>
        <p:blipFill>
          <a:blip r:embed="rId1"/>
          <a:stretch/>
        </p:blipFill>
        <p:spPr>
          <a:xfrm>
            <a:off x="4952880" y="685800"/>
            <a:ext cx="4191120" cy="6172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ideki_Tojo_posing"/>
          <p:cNvPicPr/>
          <p:nvPr/>
        </p:nvPicPr>
        <p:blipFill>
          <a:blip r:embed="rId2"/>
          <a:stretch/>
        </p:blipFill>
        <p:spPr>
          <a:xfrm>
            <a:off x="0" y="0"/>
            <a:ext cx="4510080" cy="6324480"/>
          </a:xfrm>
          <a:prstGeom prst="rect">
            <a:avLst/>
          </a:prstGeom>
          <a:ln w="0">
            <a:noFill/>
          </a:ln>
        </p:spPr>
      </p:pic>
      <p:sp>
        <p:nvSpPr>
          <p:cNvPr id="155" name="WordArt 8"/>
          <p:cNvSpPr txBox="1"/>
          <p:nvPr/>
        </p:nvSpPr>
        <p:spPr>
          <a:xfrm>
            <a:off x="838080" y="3800520"/>
            <a:ext cx="6248520" cy="30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ideki Toj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File:IJA troops enter Mukd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0"/>
            <a:ext cx="65149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WordArt 6"/>
          <p:cNvSpPr txBox="1"/>
          <p:nvPr/>
        </p:nvSpPr>
        <p:spPr>
          <a:xfrm>
            <a:off x="380880" y="304920"/>
            <a:ext cx="84297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vading Manchuria (Manachukuo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china2-9650"/>
          <p:cNvPicPr/>
          <p:nvPr/>
        </p:nvPicPr>
        <p:blipFill>
          <a:blip r:embed="rId1"/>
          <a:stretch/>
        </p:blipFill>
        <p:spPr>
          <a:xfrm>
            <a:off x="0" y="0"/>
            <a:ext cx="2490840" cy="3276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61" name="Picture 9" descr="nanjingmassacre"/>
          <p:cNvPicPr/>
          <p:nvPr/>
        </p:nvPicPr>
        <p:blipFill>
          <a:blip r:embed="rId2"/>
          <a:stretch/>
        </p:blipFill>
        <p:spPr>
          <a:xfrm>
            <a:off x="6607080" y="3429000"/>
            <a:ext cx="2536920" cy="3429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62" name="Picture 13" descr="nanking_massacre"/>
          <p:cNvPicPr/>
          <p:nvPr/>
        </p:nvPicPr>
        <p:blipFill>
          <a:blip r:embed="rId3"/>
          <a:stretch/>
        </p:blipFill>
        <p:spPr>
          <a:xfrm>
            <a:off x="2625840" y="1828800"/>
            <a:ext cx="3822480" cy="4200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63" name="WordArt 14"/>
          <p:cNvSpPr txBox="1"/>
          <p:nvPr/>
        </p:nvSpPr>
        <p:spPr>
          <a:xfrm>
            <a:off x="1143000" y="762120"/>
            <a:ext cx="65530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Nanking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fornian FB"/>
              </a:rPr>
              <a:t>Ch. 27.1:  The Diplomacy of the New Era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Californian FB"/>
              </a:rPr>
              <a:t>Japanese Aggres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ootlight MT Light"/>
              </a:rPr>
              <a:t>Japanese Invasion of Manchuria (193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Reason?  </a:t>
            </a:r>
            <a:r>
              <a:rPr b="0" i="1" lang="en-US" sz="2800" spc="-1" strike="noStrike">
                <a:solidFill>
                  <a:srgbClr val="000000"/>
                </a:solidFill>
                <a:latin typeface="Footlight MT Light"/>
              </a:rPr>
              <a:t>Significance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Sec. of State Henry Stimson’s Respon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9625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Footlight MT Light"/>
              </a:rPr>
              <a:t>Ch. 27.2:  Isolationism and Internationalism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Footlight MT Light"/>
              </a:rPr>
              <a:t>U.S.S.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America and the Soviet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Despite ideological/political differences, U.S. officially recognized the U.S.S.R. in 193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285768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Footlight MT Light"/>
              </a:rPr>
              <a:t>Ch. </a:t>
            </a:r>
            <a:r>
              <a:rPr b="0" lang="en-US" sz="3400" spc="-1" strike="noStrike">
                <a:solidFill>
                  <a:srgbClr val="000000"/>
                </a:solidFill>
                <a:latin typeface="Footlight MT Light"/>
              </a:rPr>
              <a:t>27.2:  Isolationism and Internationalism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Footlight MT Light"/>
              </a:rPr>
              <a:t>Good Neighbor Policy</a:t>
            </a:r>
            <a:br>
              <a:rPr sz="36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.S. had a tradition of involvement in Latin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roe Doct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xican American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sevelt Corol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ba/Puerto 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xico (Pancho Vil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 policy (“Good Neighbor”) meant that the U.S. would use economic means to bring about desired change – rather than military means like in the p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Nullification of Platt Amendment in 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936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Footlight MT Light"/>
              </a:rPr>
              <a:t>Ch. 27.2:  Isolationism and Internationalism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Footlight MT Light"/>
              </a:rPr>
              <a:t>Isolationis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Footlight MT Light"/>
              </a:rPr>
              <a:t>Reasons for Isolationis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Despite a supposed tradition of isolationism, the U.S. had largely been involved in world affairs since at least the late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Footlight MT Light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c.  Wilsonian internationalists had attempted to apply democratic principles (i.e. self-determination, disarmament, etc.) to foreign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Failed disarmament conferences and ineffective L.O.N. led 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Nye Committe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867280" y="4952880"/>
            <a:ext cx="22860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Footlight MT Light"/>
              </a:rPr>
              <a:t>Ch. 27.2:  Isolationism and Internationalism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Footlight MT Light"/>
              </a:rPr>
              <a:t>American Neutral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36680" y="1600200"/>
            <a:ext cx="3051000" cy="4191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581280" y="1600200"/>
            <a:ext cx="5238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Footlight MT Light"/>
              </a:rPr>
              <a:t>Ch. 27.2:  Isolationism and Internationalism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Footlight MT Light"/>
              </a:rPr>
              <a:t>American Neutral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ootlight MT Light"/>
              </a:rPr>
              <a:t>The Neutrality Act of 1935 authorized the president to prohibit all arms shipments to forbid U.S. citizens to travel on the ships of belligerent n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ootlight MT Light"/>
              </a:rPr>
              <a:t>Prompted by Mussolini’s invasion of Ethiop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ootlight MT Light"/>
              </a:rPr>
              <a:t>The Neutrality Act of 1936 forbade the extension of loans and credits to bellige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ootlight MT Light"/>
              </a:rPr>
              <a:t>The Neutrality Act of 1937 forbade the shipment of arms to the opposing sides in the Spanish Civil War, but allowed cash-and-carr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ootlight MT Light"/>
              </a:rPr>
              <a:t>This will be revised in 1939 to allow Cash-and-Carry for weapons to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876920" y="1647720"/>
            <a:ext cx="411480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41:22Z</dcterms:created>
  <dc:creator>bhartley</dc:creator>
  <dc:description/>
  <dc:language>en-US</dc:language>
  <cp:lastModifiedBy>bhartley</cp:lastModifiedBy>
  <dcterms:modified xsi:type="dcterms:W3CDTF">2010-04-29T12:22:24Z</dcterms:modified>
  <cp:revision>7</cp:revision>
  <dc:subject/>
  <dc:title>The Diplomacy of the New Era Post-WWI Themes/Trends… - Pacifism - Anger Resentment - Economic Problems (1919-1920 + Great Depression)</dc:title>
</cp:coreProperties>
</file>